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03320" y="694800"/>
            <a:ext cx="484488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dt" idx="13"/>
          </p:nvPr>
        </p:nvSpPr>
        <p:spPr>
          <a:xfrm>
            <a:off x="38811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4"/>
          </p:nvPr>
        </p:nvSpPr>
        <p:spPr>
          <a:xfrm>
            <a:off x="-3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5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78AB1-498A-47C0-AD20-BE6D38B87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ABC14-3608-4A9F-9131-BDE4BC678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5953D-7102-4022-BBFD-3A32E5A21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55170-A141-4E27-9324-CE7BAD761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E91B3-2439-4385-A484-DDD593E14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A12DE-CBDC-48D5-BBA9-2BFC3350F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453C1-E820-4C6C-8561-B5DF7EEC9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42A90-95C4-43D8-BD92-0AF8209A8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AB254-4616-4927-9C9E-BCA429278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F707D-3510-427B-8A01-A46ECFDE0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1A82D-B6F3-4717-AD57-79081282E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B57-4FED-4BD8-9998-6B0F9F45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F63-E571-4E3D-BB04-21764B2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AC9-3652-4EFC-AABC-F5D54E75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591-3DFA-4D15-8D20-4925EA7D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F8C7-18D0-43C5-B9FE-FEAD737B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3CCE-6940-4988-A5F9-91CD7817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D7B2-7381-4E73-BF1E-A314DF0C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D22-FAEE-4D99-A219-01DB3CB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585-3CEB-4385-A0B2-367C1C5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A8ED-9AB2-406D-8518-AEC30DDD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E6E-02F8-4AFC-A28B-336A096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118-D837-4248-B0B2-7BDDC36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6E1A-DF21-449D-BBEA-2491A1B6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4619-87AE-42EF-8558-00A9B8D3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DB0-F454-4518-ABC0-D05C637D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B18-40CB-4B93-9DA8-31FDE261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1C4-1F52-43E1-AB6E-175ADD2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96C2-5CBA-47B8-9081-36C20911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4A37-7BCF-4DB0-84C9-F7677B21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299D-4D6E-4C7D-A280-04EDA62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5A98-3102-4183-8972-B97E4497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529D-65EC-41B5-A013-20FD7F6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200-C1BB-48C0-9E07-3078C6E2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9E3E-481F-47BC-BD69-C5E88BF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7D91-4B7D-4D72-A4D7-2913F7E5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BE03-7C4C-4710-9D3A-204AA80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65B2-0794-4BA3-B37D-436071F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695E-2927-42A0-B6AB-29049F3D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7F062-0365-467E-9DFD-EBAFF11F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891B-B319-46C5-90EE-E02288D7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7517-91A9-4D23-8A34-0D41F0B3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EB19-D61C-466F-ABDF-7DA7976A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E805-2CBA-4B36-A2EA-541A25EB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A55-65AA-48D6-8E15-C3DF69D1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DA15-03FD-41A9-84EB-DB8050B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A7A9-D295-4AE0-A79C-1D099D5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E6B2-5A35-4FB5-95F8-B879331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C0BA-7EAC-4768-BC2E-047E3E0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A07B-D775-4A39-8809-8D8B09E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B838-AAF3-492D-9569-3C0D95B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43D0B-7456-4953-A0EB-0E794AF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C5D7-7EE3-4E3F-9BA2-2B919694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2D27-C585-4D1F-AC87-A0096EA4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C72-04AE-4D2F-9F35-006A7E6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121-AB99-4AB0-A611-E8C5DD8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0BD-7B24-4BAB-9F5E-E85A8FB1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A1A-73BF-4945-B30E-7AB1D52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31A-3B2B-4BAD-8798-E302E46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5800" cy="6848640"/>
            <a:chOff x="1440" y="0"/>
            <a:chExt cx="9145800" cy="6848640"/>
          </a:xfrm>
        </p:grpSpPr>
        <p:sp>
          <p:nvSpPr>
            <p:cNvPr id="1" name="Freeform 2"/>
            <p:cNvSpPr/>
            <p:nvPr/>
          </p:nvSpPr>
          <p:spPr>
            <a:xfrm>
              <a:off x="8008920" y="4168800"/>
              <a:ext cx="1138320" cy="267984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50360" y="6022800"/>
              <a:ext cx="596880" cy="82584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6920" y="6689880"/>
              <a:ext cx="130320" cy="15876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7200" y="0"/>
              <a:ext cx="8089920" cy="6848640"/>
              <a:chOff x="457200" y="0"/>
              <a:chExt cx="8089920" cy="684864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7640" y="0"/>
                <a:ext cx="11088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3920" y="0"/>
                <a:ext cx="27288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30880" y="0"/>
                <a:ext cx="53172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5600" y="0"/>
                <a:ext cx="67464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4360" y="0"/>
                <a:ext cx="88272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40640" y="0"/>
                <a:ext cx="109224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8760" y="0"/>
                <a:ext cx="136836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8440" y="0"/>
                <a:ext cx="23508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2640" y="0"/>
                <a:ext cx="47304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6160" y="0"/>
                <a:ext cx="67140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90640" y="0"/>
                <a:ext cx="90972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4560" y="0"/>
                <a:ext cx="116676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7200" y="0"/>
                <a:ext cx="133020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360" y="4605480"/>
              <a:ext cx="959040" cy="224316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360" y="6175440"/>
              <a:ext cx="358920" cy="67320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1960" y="0"/>
              <a:ext cx="1558800" cy="283212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2440" y="0"/>
              <a:ext cx="1138320" cy="13381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6360" y="0"/>
              <a:ext cx="644400" cy="6541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360" y="0"/>
              <a:ext cx="1359000" cy="22334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360" y="0"/>
              <a:ext cx="930600" cy="94788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360" y="0"/>
              <a:ext cx="425520" cy="3967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3920"/>
              <a:ext cx="91378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40040"/>
              <a:ext cx="91378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7800"/>
              <a:ext cx="91378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440"/>
              <a:ext cx="9137880" cy="2490480"/>
              <a:chOff x="1440" y="622440"/>
              <a:chExt cx="9137880" cy="249048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80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292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940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44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5560"/>
              <a:ext cx="91378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1680"/>
              <a:ext cx="91378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5A871-1CFB-4242-BF50-E453E23687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5440" cy="6848640"/>
            <a:chOff x="0" y="0"/>
            <a:chExt cx="9145440" cy="6848640"/>
          </a:xfrm>
        </p:grpSpPr>
        <p:sp>
          <p:nvSpPr>
            <p:cNvPr id="79" name="Freeform 2"/>
            <p:cNvSpPr/>
            <p:nvPr/>
          </p:nvSpPr>
          <p:spPr>
            <a:xfrm>
              <a:off x="8007480" y="4168800"/>
              <a:ext cx="1137960" cy="267984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8560" y="6022800"/>
              <a:ext cx="596880" cy="82584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5480" y="6689880"/>
              <a:ext cx="129960" cy="15876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760" y="0"/>
              <a:ext cx="8089920" cy="6848640"/>
              <a:chOff x="455760" y="0"/>
              <a:chExt cx="8089920" cy="684864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5840" y="0"/>
                <a:ext cx="11124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902120" y="0"/>
                <a:ext cx="27324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9080" y="0"/>
                <a:ext cx="53208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4160" y="0"/>
                <a:ext cx="67464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2560" y="0"/>
                <a:ext cx="88272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8840" y="0"/>
                <a:ext cx="109224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6960" y="0"/>
                <a:ext cx="136872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7000" y="0"/>
                <a:ext cx="23472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21200" y="0"/>
                <a:ext cx="47304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4360" y="0"/>
                <a:ext cx="67176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9200" y="0"/>
                <a:ext cx="90972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760" y="0"/>
                <a:ext cx="116676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760" y="0"/>
                <a:ext cx="133020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920" y="4605480"/>
              <a:ext cx="959040" cy="224316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920" y="6175440"/>
              <a:ext cx="358920" cy="67320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80160" y="0"/>
              <a:ext cx="1559160" cy="283212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001000" y="0"/>
              <a:ext cx="1138320" cy="13381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4560" y="0"/>
              <a:ext cx="644760" cy="6541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920" y="0"/>
              <a:ext cx="1359000" cy="22334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920" y="0"/>
              <a:ext cx="930240" cy="94788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920" y="0"/>
              <a:ext cx="425520" cy="3967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392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4004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780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440"/>
              <a:ext cx="9137520" cy="2490480"/>
              <a:chOff x="0" y="622440"/>
              <a:chExt cx="9137520" cy="249048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380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292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8940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588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44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556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168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12EA1-E493-494B-999A-65D2674011D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91E36-7085-474D-B940-D16F193B2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CAE46-9086-45F7-9FB4-C7A8722AE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rmanculture.com.ua/library/facts/bl_population.htm" TargetMode="External"/><Relationship Id="rId3" Type="http://schemas.openxmlformats.org/officeDocument/2006/relationships/hyperlink" Target="http://www.macombcountymi.gov/mcped/Documents/Diversity/Diversity%20Brochure-Germany.pd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68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opulation Diversity in German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Theme: Cultural Diversity in German Speaking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By: Juliane Baldeweg-R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12920"/>
            <a:ext cx="8229600" cy="94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Cite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88000"/>
          </a:bodyPr>
          <a:p>
            <a:pPr marL="301680" indent="-300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germanculture.com.ua/library/facts/bl_population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macombcountymi.gov/mcped/Documents/Diversity/Diversity%20Brochure-Germany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urkishweekly.net/article/146/turks-in-germany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newsimg.bbc.co.uk/media/images/40581000/jpg/_40581907_colognedemo_203body_afp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mtholyoke.edu/~mamma22j/classweb/turksingermany/german-turks-with-flag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iegel.de/images/image-140943-galleryV9-htim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23dc"/>
                </a:solidFill>
                <a:latin typeface="Arial"/>
              </a:rPr>
              <a:t>Foreign Pop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’s population includes 7.3 million foreigners, including 2 million Turks and many refugees from developing count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1970, about 3.2 million foreigners have become German citize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introduction of a new citizenship law in 2000, many children of foreign parents became eligible for German citizenship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1988 and 1993, more than 1.4 million refugees, many from the soviet Union, sought asylum i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immigration law that took effect on January 1, 2005, promotes a more open immigration policy, particularly for highly skilled work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31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Arial"/>
              </a:rPr>
              <a:t>German Population according to language and religion</a:t>
            </a: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95% of the population of Germany speak German as their primar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ous immigrant populations retain their native languages, including Turks, Greeks, Italians, Spanish, and Croat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% of the population are Protes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s comprise of 35% of the German popu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religious minorities include Muslims and J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6926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14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Turks in Germany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spcBef>
                <a:spcPts val="499"/>
              </a:spcBef>
              <a:buNone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s form the largest foreign population in German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1955-1968, there were more open jobs than unemployed people in Germany, so the Government reacted by recruiting workers in the South of Europe. The Turks became the biggest foreign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Turks stayed because they did not earn enough money to start a new business in Turk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erman economy did not want to lose skilled workers and employ new ones who would have to be tr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 only one quarter of the people of Turkish origin came to Germany as workers, while 53% immigrated as family members and 17% of the adult Turks were born in German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6926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028880" y="1266840"/>
            <a:ext cx="2857320" cy="3533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4227480" y="1371600"/>
            <a:ext cx="4230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8040" y="306360"/>
            <a:ext cx="79581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323dc"/>
                </a:solidFill>
                <a:latin typeface="Arial"/>
              </a:rPr>
              <a:t>Quiz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68000"/>
          </a:bodyPr>
          <a:p>
            <a:pPr marL="292320" indent="-220320">
              <a:spcBef>
                <a:spcPts val="7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foreigners populate German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8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6.5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 7.3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9.2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han the Germans, which ethnic group is the largest in Germ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Tu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Gr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tal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Spa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2920"/>
            <a:ext cx="8229600" cy="94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Answers to the Quiz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5876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spcBef>
                <a:spcPts val="726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 many foreigners populate Germany?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spcBef>
                <a:spcPts val="726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. 7.3 mill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spcBef>
                <a:spcPts val="726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ther than the Germans, which ethnic group is the largest in Germany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spcBef>
                <a:spcPts val="726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. Turk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1:39:15Z</dcterms:created>
  <dc:creator>SCSadmin</dc:creator>
  <dc:description/>
  <dc:language>en-US</dc:language>
  <cp:lastModifiedBy>User</cp:lastModifiedBy>
  <dcterms:modified xsi:type="dcterms:W3CDTF">2011-09-10T12:42:57Z</dcterms:modified>
  <cp:revision>11</cp:revision>
  <dc:subject/>
  <dc:title>Population Diversity in Germany</dc:title>
</cp:coreProperties>
</file>